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5439-D5CB-497C-8E0A-783EF805249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Jessie W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essie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, there are three kind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 (each one sensitive to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 range of wavelength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red" cones (64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green" cones (32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blue" cones (2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human retina contains two kinds of light sensitive cells: the rod cells (active only in low light) and the cone cells (active in normal daylight and responsible for color perceptio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re be light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t kinds of inherited color blindness result from partial or complete loss of function of one or more of the different cone systems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, there are three kind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(each one sensitive to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range of wavelength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ed" cones (64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green" cones (32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blue" cones (2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rmal human retina contains two kinds of light sensitive cells: the rod cells (active only in low light) and the cone cells (active in normal daylight and responsible for color percep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re be ligh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kinds of inherited color blindness result from partial or complete loss of function of one or more of the different cone system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Types of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chromacy: occurs when two or all three of the cone pigments are missing and color and lightness vision is reduced to one dimen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chromacy: occurs when only one of the cone pigments is missing and color is reduced to two dimen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-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-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hromacy: occurs when two or all three of the cone pigments are missing and color and lightness vision is reduced to one dimen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macy: occurs when only one of the cone pigments is missing and color is reduced to two dim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-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known as rod monochromacy, complete achromatopsia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 monochrom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re, non-progressive inability to distinguish any colors a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of absent or nonfunctioning retinal c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everything as white, black, or some shade of g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ly caused by a missense mutation (a switched amino aci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NGB3 ge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rod monochromacy, complete achromatopsia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nochrom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re, non-progressive inability to distinguish any colors a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bsent or nonfunctioning retinal c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everything as white, black, or some shade of gr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ly caused by a missense mutation (a switched amino aci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NGB3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IC NUCLEOTIDE-GATED CHANNEL, BETA-3 (CNGB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c achromatopsia results from a complete loss of CNGB3 fun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NGB3 encodes for the beta subunit of the cone cyclic nucleotide-gated cation channel, found photoreceptor plasma membra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on activation by cGMP, it leads to an opening of cation channels which thereby cause a depolarization of rod photoreceptors. This gene is essential for the generation of light-evoked electrical responses in c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NGB3 is not required for vital processes outside the visual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NUCLEOTIDE-GATED CHANNEL, BETA-3 (CNGB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c achromatopsia results from a complete loss of CNGB3 fu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GB3 encodes for the beta subunit of the cone cyclic nucleotide-gated cation channel, found photoreceptor plasma membra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activation by cGMP, it leads to an opening of cation channels which thereby cause a depolarization of rod photoreceptors. This gene is essential for the generation of light-evoked electrical responses in c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GB3 is not required for vital processes outside the visual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NGB3 C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human CNGB3 gene consists of 18 ex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tributed over 200 kb of genomic sequ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e type: protein co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main: similar to ion transport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ytogenetic locus:  chromosome: 8; Location: 8q21-q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NGB3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uman CNGB3 gene consists of 18 e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d over 200 kb of genomic sequ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 type: protein 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main: similar to ion transport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ytogenetic locus:  chromosome: 8; Location: 8q21-q2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seq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ngth: 809 a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TIEVKEKAKQ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mino acid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gth: 809 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TIEVKEKAKQ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ta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enetic basis for achromatopsia is found on chromosome 8 (location 8q21-q22) where there is a recessive point mutation in CNGB3 that changes serine at residue 435 to phenylalanine in a highly conserved site in the S6 membrane-spanning dom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tic basis for achromatopsia is found on chromosome 8 (location 8q21-q22) where there is a recessive point mutation in CNGB3 that changes serine at residue 435 to phenylalanine in a highly conserved site in the S6 membrane-spanning dom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ookshelf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amir S Deeb, PhD, Arno G Motulsky, MD, “Red-Green Color Vision Defects,” GeneReviews, September 19, 2005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erg, Jeremy M. “32.3.5. Rearrangements in the Genes for the Green and Red Pigments Lead to ‘Color Blindness,’” Biochemistry 5th edition, W.H. Freeman and Company, 2002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MIM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LORBLINDNESS, PARTIAL, DEUTAN SERIES; CBD”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MIM ID: 3038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Med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arrison, R.; Hoefnagel, D.; Hayward, J. N.  “Congenital total color blindness.” Arch. Ophthal. 64: 685-692, 1960. PubMed ID: 1371183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otstein, D. “The molecular biology of color vision.” (Editorial) Science 232: 142-143, 1986. PubMed ID: 293714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yniers, E.; Van Thienen, M.-N.; Meire, F.; De Boulle, K.; Devries, K.; Kestelijn, P.; Willems, P. J. “Gene conversion between red and defective green opsin gene in blue cone monochromacy.” Genomics 29: 323-328, 1995. PubMed ID: 8666378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inderickx, J.; Sanocki, E.; Lindsey, D. T.; Teller, D. Y.; Motulsky, A. G.; Deeb, S. S. 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Defective colour vision associated with a missense mutation in the human green visual pigment gene.” Nature Genet. 1: 251-256, 1992.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Med ID: 130202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okshel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ir S Deeb, PhD, Arno G Motulsky, MD, “Red-Green Color Vision Defects,” GeneReviews, September 19,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rg, Jeremy M. “32.3.5. Rearrangements in the Genes for the Green and Red Pigments Lead to ‘Color Blindness,’” Biochemistry 5th edition, W.H. Freeman and Company, 20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MI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LORBLINDNESS, PARTIAL, DEUTAN SERIES; CB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MIM ID: 303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M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rrison, R.; Hoefnagel, D.; Hayward, J. N.  “Congenital total color blindness.” Arch. Ophthal. 64: 685-692, 1960. PubMed ID: 1371183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stein, D. “The molecular biology of color vision.” (Editorial) Science 232: 142-143, 1986. PubMed ID: 293714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yniers, E.; Van Thienen, M.-N.; Meire, F.; De Boulle, K.; Devries, K.; Kestelijn, P.; Willems, P. J. “Gene conversion between red and defective green opsin gene in blue cone monochromacy.” Genomics 29: 323-328, 1995. PubMed ID: 866637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nderickx, J.; Sanocki, E.; Lindsey, D. T.; Teller, D. Y.; Motulsky, A. G.; Deeb, S. S.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ective colour vision associated with a missense mutation in the human green visual pigment gene.” Nature Genet. 1: 251-256, 1992.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Med ID: 13020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BBB-D2EC-4D85-AE31-1C223D69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4655-5383-4FAD-8F19-4FD710DE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E1A-4A4C-4FCE-B19C-E1D3C183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843-7BF7-48D4-A25B-BCD44F01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B27B-E677-4145-8412-750FB631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727D-02DE-4476-9F7E-2D33CEAE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308F-A6D8-4D5C-8E5A-6D272A2D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3C36-3508-4110-9175-4C3009B0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F1B2-2038-4748-9364-C4266392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2318-E259-47F9-A9DC-E6FA0860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9FA9-0438-4F47-AA68-7E912A70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B46E-B98C-43D6-B69B-CD86D52B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7E41-AA4B-433A-A07E-134E7A31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3E59-B2E0-4A72-B77E-CDE9E233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E963-6DE6-4920-A650-97FD2150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F599-C933-42B7-B439-FDB66DB7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A0FF-579A-48A8-9BBC-320F7DD9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0D6-3735-41D8-BF56-DBC82690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5B5D-17CD-449D-A796-46566DFC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2EA-E3A8-4C3B-B643-E91FA31C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35F-87B4-4CF7-AC9C-8B10483A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0986-E69D-4D80-8577-ECCE769D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C14F-7BDB-4C53-BE2D-3FFD8954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EB8E-840F-49E0-B416-A26F32C1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7769-9D07-4E99-9D71-375096C77029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6C55-2D1D-4BE3-8A89-C27A4862038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Color Blindness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By Jessie W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1760" y="2438280"/>
            <a:ext cx="41907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rmally, there are three kinds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es (each one sensitive to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cific range of wavelength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r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6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33cc33"/>
                </a:solidFill>
                <a:latin typeface="Tahoma"/>
              </a:rPr>
              <a:t>gree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32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blu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2%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2895840" cy="24274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685800" y="1676520"/>
            <a:ext cx="75438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normal human retina contains two kinds of light sensitive cells: the rod cells (active only in low light) and the cone cells (active in normal daylight and responsible for color perception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2666880" y="533520"/>
            <a:ext cx="3962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t there be light!!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762120" y="4876920"/>
            <a:ext cx="74674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different kinds of inherited color blindness result from partial or complete loss of function of one or more of the different cone systems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8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ahoma"/>
              </a:rPr>
              <a:t>Different Types of Color Blind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 occurs when two or all three of the cone pigments are missing and color and lightness vision is reduced to one dimens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Total color blind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i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 occurs when only one of the cone pigments is missing and color is reduced to two dimens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Partial color blind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red-gre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blue-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ahoma"/>
              </a:rPr>
              <a:t>Total Color Blind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so known as </a:t>
            </a: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rod 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complete achromatopsi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typical 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are, non-progressive inability to distinguish any colors as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ult of absent or nonfunctioning retinal co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e everything as white, black, or some shade of gra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ypically caused by a missense mutation (a switched amino aci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e </a:t>
            </a:r>
            <a:r>
              <a:rPr b="0" lang="en-US" sz="2000" spc="-1" strike="noStrike">
                <a:solidFill>
                  <a:srgbClr val="66ffff"/>
                </a:solidFill>
                <a:latin typeface="Tahoma"/>
              </a:rPr>
              <a:t>CNGB3 gen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ahoma"/>
              </a:rPr>
              <a:t>CYCLIC NUCLEOTIDE-GATED CHANNEL, BETA-3 (CNGB3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ssic achromatopsia results from a complete loss of CNGB3 func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NGB3 encodes for the beta subunit of the cone cyclic nucleotide-gated cation channel, found photoreceptor plasma membra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on activation by cGMP, it leads to an opening of cation channels which thereby cause a depolarization of rod photoreceptor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gene is essential for the generation of light-evoked electrical responses in co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NGB3 is not required for vital processes outside the visual system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ahoma"/>
              </a:rPr>
              <a:t>CNGB3 Cont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human CNGB3 gene consists of 18 ex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tributed over 200 kb of genomic sequenc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Gene type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protein 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omain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similar to ion transport prote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545120" y="5715000"/>
            <a:ext cx="57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Cytogenetic locus:  chromosome</a:t>
            </a:r>
            <a:r>
              <a:rPr b="0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: 8; </a:t>
            </a:r>
            <a:r>
              <a:rPr b="1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Location:</a:t>
            </a:r>
            <a:r>
              <a:rPr b="0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 8q21-q2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39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7924680" cy="99072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8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ahoma"/>
              </a:rPr>
              <a:t>Amino acid sequ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Length: 809 a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66ffff"/>
                </a:solidFill>
                <a:latin typeface="Tahoma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66ffff"/>
                </a:solidFill>
                <a:latin typeface="Tahoma"/>
              </a:rPr>
              <a:t>LTIEVKEKAKQ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ahoma"/>
              </a:rPr>
              <a:t>Mutation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2667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The genetic basis for achromatopsia is found on chromosome 8 (location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q21-q22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) where there is a recessive point mutation in CNGB3 that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nges serine at residue 435 to phenylalanine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 in a highly conserved site in the S6 membrane-spanning domai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ahoma"/>
              </a:rPr>
              <a:t>Bibliograp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Bookshelf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amir S Deeb, PhD, Arno G Motulsky, MD,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Red-Green Color Vision Defects,”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neReviews, September 19, 200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erg, Jeremy M.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“32.3.5. Rearrangements in the Genes for the Green and Red Pigments Lead to ‘Color Blindness,’”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Biochemistry 5th edition, W.H. Freeman and Company, 2002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OMIM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LORBLINDNESS, PARTIAL, DEUTAN SERIES; CBD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MIM ID: 3038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PubMed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arrison, R.; Hoefnagel, D.; Hayward, J. N. 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Congenital total color blindness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”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Arch. Ophthal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4: 685-692, 1960. PubMed ID: 13711836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otstein, D.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The molecular biology of color vision.”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(Editorial) </a:t>
            </a:r>
            <a:r>
              <a:rPr b="0" i="1" lang="nl-NL" sz="1400" spc="-1" strike="noStrike">
                <a:solidFill>
                  <a:srgbClr val="ffffff"/>
                </a:solidFill>
                <a:latin typeface="Tahoma"/>
              </a:rPr>
              <a:t>Science 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232: 142-143, 1986. PubMed ID: 2937146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Reyniers, E.; Van Thienen, M.-N.; Meire, F.; De Boulle, K.; Devries, K.; Kestelijn, P.; Willems, P. J. </a:t>
            </a:r>
            <a:r>
              <a:rPr b="0" lang="nl-NL" sz="1400" spc="-1" strike="noStrike" u="sng">
                <a:solidFill>
                  <a:srgbClr val="ffffff"/>
                </a:solidFill>
                <a:uFillTx/>
                <a:latin typeface="Tahoma"/>
              </a:rPr>
              <a:t>“Gene conversion between red and defective green opsin gene in blue cone monochromacy.”</a:t>
            </a:r>
            <a:r>
              <a:rPr b="1" lang="nl-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Genomics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9: 323-328, 1995. PubMed ID: 866637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inderickx, J.; Sanocki, E.; Lindsey, D. T.; Teller, D. Y.; Motulsky, A. G.; Deeb, S. S. 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Defective colour vision associated with a missense mutation in the human green visual pigment gene.”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Nature Genet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: 251-256, 1992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ubMed ID: 1302020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0:21:55Z</dcterms:created>
  <dc:creator>Jessie Wright</dc:creator>
  <dc:description/>
  <dc:language>en-US</dc:language>
  <cp:lastModifiedBy>LEGION</cp:lastModifiedBy>
  <dcterms:modified xsi:type="dcterms:W3CDTF">2018-03-22T08:41:49Z</dcterms:modified>
  <cp:revision>18</cp:revision>
  <dc:subject/>
  <dc:title>Color Blindness</dc:title>
</cp:coreProperties>
</file>